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EEB-00E2-44A8-BF07-CB126523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8F7-69A2-4374-B5F2-FF2A9810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851-9CF2-476A-8F0A-E93045E5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B9C-10C6-44FD-B333-7F3F1281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1FE-A0E8-4AA0-A4AE-BD4B93C5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5D1-EB0F-409D-98E9-5BB9178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063-29B3-4A7F-BEE2-3918CA58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21C-6D0D-4C7C-9766-C31D4BF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07F-E9A9-4B6C-96CA-FF5BE2F9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A5B-9323-4F37-BFD0-A9095C61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CD8-491D-4D70-A6A6-69DDC7F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E09-936E-462F-AF59-EA24FD4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5AD-6538-4843-80B9-F2B6FB84D5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7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080" y="1447920"/>
            <a:ext cx="627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dictive Valu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 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410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57913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2012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4343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2012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86600" y="40384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334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7543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649440"/>
            <a:ext cx="7467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othe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620120" cy="280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5867280"/>
            <a:ext cx="15242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324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3076560"/>
            <a:ext cx="762012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543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60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41911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586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39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62920" y="6095880"/>
            <a:ext cx="1447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9000" y="26668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92468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7924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2468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81280" y="2743200"/>
            <a:ext cx="2362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50532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92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449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71629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7543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20:44:14Z</dcterms:modified>
  <cp:revision>217</cp:revision>
  <dc:subject/>
  <dc:title>Slide 1</dc:title>
</cp:coreProperties>
</file>